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09C-71D9-47C6-942C-6397A0F0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1DB-D97B-4C0A-9BA2-540F944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764-011F-4D0F-852D-5139E3A4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978-7909-4167-B7B4-976BD613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9CA5-72AB-4996-83DC-D493D987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1548-88C1-4DF3-A893-4AC93436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60E4-5CAC-4BFA-8D82-B5DB3679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8506-07AB-4626-8FDE-E256187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1D2A-FC4E-4489-82F4-0EA43779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0EFE-6495-4E8C-90EB-0845A0A0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493A-282C-42AD-946F-0D7BA7C1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031-F82E-4D37-8887-B71E0A0A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C140-7EE6-49B7-B4AA-907227D9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A17F-AF74-4C6D-ABBF-6BD9ACBC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7D8A-0629-44B7-BB65-33219BE2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294F-1122-4EB0-B567-6EDE86B7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220A-AD52-4115-9338-2856EBE4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A700-EA0E-4692-BA2F-77378E1C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05C6-A08F-4B9A-A9F2-24D6CD25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ADD9-8F33-4132-8188-1DC8B21A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CD45-415A-497D-8BE1-473C209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5B2B-C570-4EF3-B755-D0B74508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B9A-8886-496C-AB61-CC5E544D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C762-07A6-4813-A83C-B92CD973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15F7-E53D-45B0-89C2-055E6E0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7BAE-7D9C-458E-978F-965B27E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A33F-1FD1-47DB-9495-11680FC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4AF4-A4EE-4833-A067-EE50128B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2D26-2707-419A-B581-1E6F2C93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DC7B-0A73-478E-AA61-52E64538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ABC-A096-411B-B6D6-07B7D925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988-CB3B-4C8F-8E7C-EDC102D5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2BE-C888-4917-946E-2D5168D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5FD-D105-44CC-8713-81FFCED1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E15-1D1D-4607-B626-4F224C2A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00E-B655-40FE-AC8F-8163277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87D-A8C7-42DB-85DD-132CCD7FD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7D2D-0519-4318-8692-1349CE3DA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57200" y="333360"/>
            <a:ext cx="8229600" cy="6081840"/>
          </a:xfrm>
          <a:prstGeom prst="rect">
            <a:avLst/>
          </a:prstGeom>
          <a:solidFill>
            <a:srgbClr val="ffffff">
              <a:alpha val="62000"/>
            </a:srgbClr>
          </a:solidFill>
          <a:ln w="12600">
            <a:solidFill>
              <a:srgbClr val="f4f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1095-3CC0-45A1-BBD5-84474AB33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4800" y="4331880"/>
            <a:ext cx="812016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night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4800" y="5151600"/>
            <a:ext cx="8120160" cy="122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6b70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ty Python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– 2 –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- ways that the knight was accurately portr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– examples of feud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– major in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en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lack Kn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ab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oly H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peasants"/>
          <p:cNvPicPr/>
          <p:nvPr/>
        </p:nvPicPr>
        <p:blipFill>
          <a:blip r:embed="rId1"/>
          <a:stretch/>
        </p:blipFill>
        <p:spPr>
          <a:xfrm>
            <a:off x="4125960" y="3344760"/>
            <a:ext cx="501804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panese Feud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s of Japanese Feud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nto – religions based on spiritual devotion to nature spir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ddhist virtues are added to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landowners and warlords challenge the authority of the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farmers protection under private ar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like Europ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shinto_schrein_01_1024x768"/>
          <p:cNvPicPr/>
          <p:nvPr/>
        </p:nvPicPr>
        <p:blipFill>
          <a:blip r:embed="rId1"/>
          <a:stretch/>
        </p:blipFill>
        <p:spPr>
          <a:xfrm>
            <a:off x="3581280" y="2687760"/>
            <a:ext cx="55627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val warlords needed bodyguards (Samurai) “one who serv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the warriors code “Bushi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rless, reverence to god, generosity to po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norable death was better than long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are equal, not precio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gun – “supreme general” strongest warlord who had a near dictat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myo – strong warlords (knight/shogu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0" descr="daimyo_mounted_japanese_war_lord_pg112-thumb"/>
          <p:cNvPicPr/>
          <p:nvPr/>
        </p:nvPicPr>
        <p:blipFill>
          <a:blip r:embed="rId1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daimyo_180"/>
          <p:cNvPicPr/>
          <p:nvPr/>
        </p:nvPicPr>
        <p:blipFill>
          <a:blip r:embed="rId2"/>
          <a:stretch/>
        </p:blipFill>
        <p:spPr>
          <a:xfrm>
            <a:off x="0" y="3394080"/>
            <a:ext cx="47242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-52340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228600" y="685800"/>
            <a:ext cx="8686440" cy="5715000"/>
            <a:chOff x="228600" y="685800"/>
            <a:chExt cx="8686440" cy="5715000"/>
          </a:xfrm>
        </p:grpSpPr>
        <p:sp>
          <p:nvSpPr>
            <p:cNvPr id="166" name="Pyr1"/>
            <p:cNvSpPr/>
            <p:nvPr/>
          </p:nvSpPr>
          <p:spPr>
            <a:xfrm>
              <a:off x="3608640" y="685800"/>
              <a:ext cx="1947240" cy="12668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eror/Shogu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yr2"/>
            <p:cNvSpPr/>
            <p:nvPr/>
          </p:nvSpPr>
          <p:spPr>
            <a:xfrm>
              <a:off x="2481480" y="1952640"/>
              <a:ext cx="4191480" cy="14860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im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yr3"/>
            <p:cNvSpPr/>
            <p:nvPr/>
          </p:nvSpPr>
          <p:spPr>
            <a:xfrm>
              <a:off x="1366200" y="3438720"/>
              <a:ext cx="6421320" cy="14842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ur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yr4"/>
            <p:cNvSpPr/>
            <p:nvPr/>
          </p:nvSpPr>
          <p:spPr>
            <a:xfrm>
              <a:off x="228600" y="4915080"/>
              <a:ext cx="8686440" cy="1485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tisans, Peasants, Merch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t Samurai Cl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50 – 7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difference between the emperor and the shogun?  Is that similar to European socie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0" y="3581280"/>
            <a:ext cx="41148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Gothic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55600" y="11520"/>
            <a:ext cx="7776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id_2349319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40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id_aj2945_b"/>
          <p:cNvPicPr/>
          <p:nvPr/>
        </p:nvPicPr>
        <p:blipFill>
          <a:blip r:embed="rId2"/>
          <a:stretch/>
        </p:blipFill>
        <p:spPr>
          <a:xfrm>
            <a:off x="0" y="3486240"/>
            <a:ext cx="4952880" cy="3371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2362320" y="1179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y But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s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6553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d Constantinople &amp; Palestine from Musl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nite West and E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Christian control for Jerusal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b for kn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ns/business gr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plies, weap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crusades"/>
          <p:cNvPicPr/>
          <p:nvPr/>
        </p:nvPicPr>
        <p:blipFill>
          <a:blip r:embed="rId1"/>
          <a:stretch/>
        </p:blipFill>
        <p:spPr>
          <a:xfrm>
            <a:off x="5797440" y="2666880"/>
            <a:ext cx="3346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sade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French and other Europeans besiege Jerusalem in 1099 (Only clear vict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Jerusalem falls to Salad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chard the Lionhearted (Eng) leads buts is kidnapped on 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som breaks England (King Joh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obin h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Richard-Lionheart"/>
          <p:cNvPicPr/>
          <p:nvPr/>
        </p:nvPicPr>
        <p:blipFill>
          <a:blip r:embed="rId1"/>
          <a:stretch/>
        </p:blipFill>
        <p:spPr>
          <a:xfrm>
            <a:off x="7066080" y="4503600"/>
            <a:ext cx="2077920" cy="235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robin_hood_men_in_tights"/>
          <p:cNvPicPr/>
          <p:nvPr/>
        </p:nvPicPr>
        <p:blipFill>
          <a:blip r:embed="rId2"/>
          <a:stretch/>
        </p:blipFill>
        <p:spPr>
          <a:xfrm>
            <a:off x="3456000" y="4842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 Roman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160" y="969480"/>
            <a:ext cx="88534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ding groups threaten common sett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kings, Magyars, Musl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d quickly, before defenses can be mus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s controlled most land but people did not obey/s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udalism will be the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vikings"/>
          <p:cNvPicPr/>
          <p:nvPr/>
        </p:nvPicPr>
        <p:blipFill>
          <a:blip r:embed="rId1"/>
          <a:stretch/>
        </p:blipFill>
        <p:spPr>
          <a:xfrm>
            <a:off x="0" y="251460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agyars7a"/>
          <p:cNvPicPr/>
          <p:nvPr/>
        </p:nvPicPr>
        <p:blipFill>
          <a:blip r:embed="rId2"/>
          <a:stretch/>
        </p:blipFill>
        <p:spPr>
          <a:xfrm>
            <a:off x="5440320" y="2514600"/>
            <a:ext cx="37036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Christians Jo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giveness of sins (Golden Tick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yalty to king/l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enture/w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5" descr="first_crusa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lustrated the power of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e’s influence dec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religious pers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hants became weal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deas, products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d/Knight weaken &amp; Kings grow in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usands left home and traveled to new 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ft Women and others to higher positions in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" descr="Crusades"/>
          <p:cNvPicPr/>
          <p:nvPr/>
        </p:nvPicPr>
        <p:blipFill>
          <a:blip r:embed="rId1"/>
          <a:stretch/>
        </p:blipFill>
        <p:spPr>
          <a:xfrm>
            <a:off x="7162920" y="1066680"/>
            <a:ext cx="19810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Ages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015560"/>
            <a:ext cx="807696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Put the important dates of the Middle Ages on a timeline. Be sure to follow proper timeline format &amp; r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D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800 AD: Charlemagne crowned Holy Roman Empe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1400 AD: Middle Ages 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1347 AD: Bubonic plague devastates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1095 AD: First Crusade be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500 AD: Middle Ages beg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1215 AD: King John approves Magna Ca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ue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at 13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 that spread from China via trade ro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alian traders move it through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ities forbade foreig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d quarantine comes from giorni, ships had to wait 40 days to doc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reas lost 75% of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plaguemap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ng around the Ro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around the Rosy = hemorrhage in the skin (bubo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cket full of posies = herbs/flowers to stop the bad sm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es . . .we all fall down = death/cre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Cheob6x4_w_inset"/>
          <p:cNvPicPr/>
          <p:nvPr/>
        </p:nvPicPr>
        <p:blipFill>
          <a:blip r:embed="rId1"/>
          <a:stretch/>
        </p:blipFill>
        <p:spPr>
          <a:xfrm>
            <a:off x="0" y="4786200"/>
            <a:ext cx="304812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doctor"/>
          <p:cNvPicPr/>
          <p:nvPr/>
        </p:nvPicPr>
        <p:blipFill>
          <a:blip r:embed="rId2"/>
          <a:stretch/>
        </p:blipFill>
        <p:spPr>
          <a:xfrm>
            <a:off x="7810560" y="4238640"/>
            <a:ext cx="1333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the Pla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fall (centuries to recov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decline (high pri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fs run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s revolt against l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demand but low wages still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ws blamed – persec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t in reli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fare follows too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pse of Rome = Middle 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ruption of Trade – Invasions on ro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fall of Cities – cities aban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Shift – left cities for r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ine of Learning – low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Common Language – Vernacular vs. La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of Govt. changed – less loyalty to law and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3c1c7"/>
                </a:solidFill>
                <a:latin typeface="Calibri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8760" y="1600200"/>
            <a:ext cx="767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ec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ece4"/>
                </a:solidFill>
                <a:latin typeface="Calibri"/>
              </a:rPr>
              <a:t>You are to create a comic strip that shows the major events that changed Western Europe from the Roman Empire to a Feudal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ec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ece4"/>
                </a:solidFill>
                <a:latin typeface="Calibri"/>
              </a:rPr>
              <a:t>Should be at least 6 scenes 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831960"/>
            <a:ext cx="8686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udalism – system of govern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sed o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bligations of loyalty/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was involved? How did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d/landowner – grants fief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lands i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hange for military service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ssals receive land and ser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nights – warriors who fou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lords in retur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udalism is based 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feudalism"/>
          <p:cNvPicPr/>
          <p:nvPr/>
        </p:nvPicPr>
        <p:blipFill>
          <a:blip r:embed="rId1"/>
          <a:stretch/>
        </p:blipFill>
        <p:spPr>
          <a:xfrm>
            <a:off x="5257800" y="4648320"/>
            <a:ext cx="388620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udal Pyram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Feudalismchart"/>
          <p:cNvPicPr/>
          <p:nvPr/>
        </p:nvPicPr>
        <p:blipFill>
          <a:blip r:embed="rId1"/>
          <a:stretch/>
        </p:blipFill>
        <p:spPr>
          <a:xfrm>
            <a:off x="228600" y="352440"/>
            <a:ext cx="891540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64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HAT CARD ARE YOU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3720"/>
            <a:ext cx="86868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CARDS EVERYONE WANTS TO BE FRIEND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WITH.  THEY ARE ONLY FRIENDS WITH 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CK &amp; 10’S       ARE CARDS THAT ARE GOOD TO 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IENDS WITH.  CARDS YOU SHOULD 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CE TO, UNLESS YOU ARE ABOVE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’S,8’S,7’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ARE CARDS THAT ARE AVERAGE.  THE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EITHER LIKEABLE NOR DISLIKE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’S, 5’S, 4’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THESE ARE THE CARDS YOU DO NO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’S, 2’S, ACES     WANT TO BE FRIENDS WITH.  THERE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NEED TO BE NICE TO THESE CARD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3040" y="274320"/>
            <a:ext cx="40734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manor"/>
          <p:cNvPicPr/>
          <p:nvPr/>
        </p:nvPicPr>
        <p:blipFill>
          <a:blip r:embed="rId1"/>
          <a:stretch/>
        </p:blipFill>
        <p:spPr>
          <a:xfrm>
            <a:off x="0" y="0"/>
            <a:ext cx="46134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613400" y="1179360"/>
            <a:ext cx="407340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s nobles and 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fare limits trade – manor provides the ess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rfs were peasants that couldn’t own land – inherite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ed to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arsh: few live beyond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angers: Famine, disease and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qualities of a K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49200"/>
            <a:ext cx="822960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s were military servants of a l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d land in exchange for skills of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ed in tournaments to earn fame, money, more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a code of Chival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ectful, poetic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rds.yahoo.com/_ylt=A0WTefhGjkhJfU8Ay7OjzbkF/SIG=1305agj2o/EXP=1229578182/**http%3A/www.cs.ucr.edu/~uamaya/Paris_et_NormandiePics/Medieval%2520Knight.JPG"/>
          <p:cNvPicPr/>
          <p:nvPr/>
        </p:nvPicPr>
        <p:blipFill>
          <a:blip r:embed="rId1"/>
          <a:stretch/>
        </p:blipFill>
        <p:spPr>
          <a:xfrm>
            <a:off x="5559480" y="4167360"/>
            <a:ext cx="3584520" cy="269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5:00:12Z</dcterms:created>
  <dc:creator>Owner</dc:creator>
  <dc:description/>
  <cp:keywords>mesh swirls smoke floral leaves curls fade layers</cp:keywords>
  <dc:language>en-US</dc:language>
  <cp:lastModifiedBy>Kuenzi, Robert</cp:lastModifiedBy>
  <dcterms:modified xsi:type="dcterms:W3CDTF">2014-01-03T20:56:58Z</dcterms:modified>
  <cp:revision>22</cp:revision>
  <dc:subject/>
  <dc:title>Knighth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9871033</vt:lpwstr>
  </property>
</Properties>
</file>